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alarmoff.wav" ContentType="audio/x-wav"/>
  <Override PartName="/ppt/media/lzipup01.wav" ContentType="audio/x-wav"/>
  <Override PartName="/ppt/media/zapbig0g.wav" ContentType="audio/x-wav"/>
  <Override PartName="/ppt/media/bserie06.wav" ContentType="audio/x-wav"/>
  <Override PartName="/ppt/media/jetflyby2.wav" ContentType="audio/x-wav"/>
  <Override PartName="/ppt/media/peopleooo.wav" ContentType="audio/x-wav"/>
  <Override PartName="/ppt/media/image1.gif" ContentType="image/gif"/>
  <Override PartName="/ppt/media/highchime.wav" ContentType="audio/x-wav"/>
  <Override PartName="/ppt/media/h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D5E-9C95-48D6-AC22-D4881FBE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7460-3C31-4DA7-8631-92D23E4C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F885-7E94-404C-8A7B-6DA85CD5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C116-71D1-4DF2-9778-4BB40468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070D-A489-48C6-88E0-AC270760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4F52-F1E3-4E1C-BC67-65AEFE0A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AF84-DE31-4147-AD34-1BA8E3D6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607F-C91B-4199-9D01-1FF28AED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7536-0F12-4C00-BCDC-78625A00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9AAC-6AFC-4619-A767-009AFEAC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3BA1-906E-4B45-9F9B-4F063E33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0D57-274E-4E23-8169-2CC5FF7D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8628-7317-436B-BFC0-CEF578CFF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peopleooo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highchime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peopleooo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peopleooo.wav"/><Relationship Id="rId14" Type="http://schemas.openxmlformats.org/officeDocument/2006/relationships/audio" Target="../media/hzipup01.wav"/><Relationship Id="rId15" Type="http://schemas.openxmlformats.org/officeDocument/2006/relationships/audio" Target="../media/jetflyby2.wav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peopleooo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peopleooo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peopleooo.wav"/><Relationship Id="rId6" Type="http://schemas.openxmlformats.org/officeDocument/2006/relationships/audio" Target="../media/hzipup01.wav"/><Relationship Id="rId7" Type="http://schemas.openxmlformats.org/officeDocument/2006/relationships/audio" Target="../media/jetflyby2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2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1. Estimate by Roundi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81240" y="1149480"/>
            <a:ext cx="160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6.43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95840" y="1127160"/>
            <a:ext cx="178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.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17840" y="719280"/>
            <a:ext cx="66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Symbol"/>
                <a:ea typeface="Symbol"/>
              </a:rPr>
              <a:t>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87600" y="1762200"/>
            <a:ext cx="70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49840" y="1771560"/>
            <a:ext cx="8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06880" y="1355760"/>
            <a:ext cx="6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3300"/>
                </a:solidFill>
                <a:latin typeface="Symbol"/>
                <a:ea typeface="Symbol"/>
              </a:rPr>
              <a:t>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83160" y="175248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54840" y="84780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2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3680" y="622440"/>
            <a:ext cx="6539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2. Joshua bought 3 yards of fabric to make a dress. The fabric cost $5.65/yd. The clerk said his total was $14.95 before tax. Did the clerk make a mistake? Expl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0800" y="3603600"/>
            <a:ext cx="160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.65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65400" y="3581280"/>
            <a:ext cx="178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17640" y="3201840"/>
            <a:ext cx="66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Symbol"/>
                <a:ea typeface="Symbol"/>
              </a:rPr>
              <a:t>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7160" y="4216320"/>
            <a:ext cx="70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19400" y="4226040"/>
            <a:ext cx="8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76440" y="3809880"/>
            <a:ext cx="6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3300"/>
                </a:solidFill>
                <a:latin typeface="Symbol"/>
                <a:ea typeface="Symbol"/>
              </a:rPr>
              <a:t>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52720" y="420696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55720" y="4948200"/>
            <a:ext cx="70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17600" y="4957920"/>
            <a:ext cx="8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74640" y="4541760"/>
            <a:ext cx="6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3300"/>
                </a:solidFill>
                <a:latin typeface="Symbol"/>
                <a:ea typeface="Symbol"/>
              </a:rPr>
              <a:t>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51280" y="493884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64280" y="4765680"/>
            <a:ext cx="346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It should have cost between $15 and $18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351480" y="3882960"/>
            <a:ext cx="60984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YES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2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Estimate by using Compatible Number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280" y="1212840"/>
            <a:ext cx="357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.  38.9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27400" y="1189080"/>
            <a:ext cx="178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7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49280" y="1925640"/>
            <a:ext cx="125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71840" y="1965240"/>
            <a:ext cx="8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13160" y="196380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1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589120" y="628560"/>
            <a:ext cx="743040" cy="1549800"/>
            <a:chOff x="2589120" y="628560"/>
            <a:chExt cx="743040" cy="1549800"/>
          </a:xfrm>
        </p:grpSpPr>
        <p:sp>
          <p:nvSpPr>
            <p:cNvPr id="74" name=""/>
            <p:cNvSpPr/>
            <p:nvPr/>
          </p:nvSpPr>
          <p:spPr>
            <a:xfrm>
              <a:off x="2658960" y="628560"/>
              <a:ext cx="66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670120" y="987120"/>
              <a:ext cx="66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89120" y="1725480"/>
              <a:ext cx="5666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558880" y="1292400"/>
            <a:ext cx="780840" cy="1618200"/>
            <a:chOff x="2558880" y="1292400"/>
            <a:chExt cx="780840" cy="1618200"/>
          </a:xfrm>
        </p:grpSpPr>
        <p:sp>
          <p:nvSpPr>
            <p:cNvPr id="78" name=""/>
            <p:cNvSpPr/>
            <p:nvPr/>
          </p:nvSpPr>
          <p:spPr>
            <a:xfrm>
              <a:off x="2666880" y="1719360"/>
              <a:ext cx="65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80920" y="1292400"/>
              <a:ext cx="65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58880" y="2421000"/>
              <a:ext cx="6253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290520" y="3100320"/>
            <a:ext cx="357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.  82.52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62200" y="3062160"/>
            <a:ext cx="178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.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38360" y="4013280"/>
            <a:ext cx="125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8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60920" y="4022640"/>
            <a:ext cx="8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02240" y="402120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2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894040" y="2502000"/>
            <a:ext cx="743040" cy="1549800"/>
            <a:chOff x="2894040" y="2502000"/>
            <a:chExt cx="743040" cy="1549800"/>
          </a:xfrm>
        </p:grpSpPr>
        <p:sp>
          <p:nvSpPr>
            <p:cNvPr id="87" name=""/>
            <p:cNvSpPr/>
            <p:nvPr/>
          </p:nvSpPr>
          <p:spPr>
            <a:xfrm>
              <a:off x="2963880" y="2502000"/>
              <a:ext cx="66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75040" y="2860560"/>
              <a:ext cx="66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94040" y="3598920"/>
              <a:ext cx="5666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833560" y="3333600"/>
            <a:ext cx="780840" cy="1618200"/>
            <a:chOff x="2833560" y="3333600"/>
            <a:chExt cx="780840" cy="1618200"/>
          </a:xfrm>
        </p:grpSpPr>
        <p:sp>
          <p:nvSpPr>
            <p:cNvPr id="91" name=""/>
            <p:cNvSpPr/>
            <p:nvPr/>
          </p:nvSpPr>
          <p:spPr>
            <a:xfrm>
              <a:off x="2941560" y="3760560"/>
              <a:ext cx="65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55600" y="3333600"/>
              <a:ext cx="65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33560" y="4462200"/>
              <a:ext cx="6253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2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01920" y="2200320"/>
            <a:ext cx="125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47960" y="2193840"/>
            <a:ext cx="8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41760" y="222264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681280" y="1550880"/>
            <a:ext cx="780840" cy="1618200"/>
            <a:chOff x="2681280" y="1550880"/>
            <a:chExt cx="780840" cy="1618200"/>
          </a:xfrm>
        </p:grpSpPr>
        <p:sp>
          <p:nvSpPr>
            <p:cNvPr id="99" name=""/>
            <p:cNvSpPr/>
            <p:nvPr/>
          </p:nvSpPr>
          <p:spPr>
            <a:xfrm>
              <a:off x="2789280" y="1977840"/>
              <a:ext cx="65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03320" y="1550880"/>
              <a:ext cx="65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81280" y="2679480"/>
              <a:ext cx="6253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93680" y="622440"/>
            <a:ext cx="8950320" cy="2104920"/>
            <a:chOff x="193680" y="622440"/>
            <a:chExt cx="8950320" cy="2104920"/>
          </a:xfrm>
        </p:grpSpPr>
        <p:sp>
          <p:nvSpPr>
            <p:cNvPr id="103" name=""/>
            <p:cNvSpPr/>
            <p:nvPr/>
          </p:nvSpPr>
          <p:spPr>
            <a:xfrm>
              <a:off x="193680" y="622440"/>
              <a:ext cx="89503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00"/>
                  </a:solidFill>
                  <a:latin typeface="Times New Roman"/>
                </a:rPr>
                <a:t>5.  Is 3.29 a reasonable quotient for                    </a:t>
              </a:r>
              <a:r>
                <a:rPr b="0" lang="en-US" sz="4400" spc="-1" strike="noStrike">
                  <a:solidFill>
                    <a:srgbClr val="006600"/>
                  </a:solidFill>
                  <a:latin typeface="Times New Roman"/>
                </a:rPr>
                <a:t>	</a:t>
              </a:r>
              <a:r>
                <a:rPr b="0" lang="en-US" sz="4400" spc="-1" strike="noStrike">
                  <a:solidFill>
                    <a:srgbClr val="006600"/>
                  </a:solidFill>
                  <a:latin typeface="Times New Roman"/>
                </a:rPr>
                <a:t>31.423      5.94?  Explain.       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2873520" y="1395360"/>
                  <a:ext cx="622080" cy="62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105" name=""/>
          <p:cNvSpPr/>
          <p:nvPr/>
        </p:nvSpPr>
        <p:spPr>
          <a:xfrm>
            <a:off x="1865160" y="4125960"/>
            <a:ext cx="346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It should have been closer to 5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952720" y="3243240"/>
            <a:ext cx="60948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O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53828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age 129, 3 – 2 #1-9, 10-3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actice 3.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10-13T11:16:57Z</dcterms:modified>
  <cp:revision>54</cp:revision>
  <dc:subject/>
  <dc:title>Slide 1</dc:title>
</cp:coreProperties>
</file>